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2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28.jpeg" ContentType="image/jpeg"/>
  <Override PartName="/ppt/media/image26.jpeg" ContentType="image/jpeg"/>
  <Override PartName="/ppt/media/image19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A55A-9AE2-4825-9FF8-C6510A82A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5203-249E-422B-BF82-2796FFCD1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2758-B34D-48DC-92E9-F90B71419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4DC-493F-48D1-B841-2694C563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38F-C0CD-4648-9445-B202B5D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DC8-910D-494A-9EED-C4C59014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969-63ED-4675-ABFE-EF6A8554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DD0-7D7B-481C-A7A4-1B301DB3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4C2-3155-4B13-A62A-BF32EDDD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097-C599-4831-9F40-A9F924D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170-9DB8-4FBC-BC8F-CFD48D4C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9AF-DD9B-4855-897E-9E173463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620-E67A-4E44-96A8-FA2923B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839-7872-4C39-99F5-EEAF835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E64-9BDE-4388-A745-477DE60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98DA-C472-403A-BC40-6C32CD08D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&amp;I264: Language Arts in the K-8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uary 15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Building A Collaborative Learning Community: One Day At a Time"/>
          <p:cNvPicPr/>
          <p:nvPr/>
        </p:nvPicPr>
        <p:blipFill>
          <a:blip r:embed="rId1"/>
          <a:stretch/>
        </p:blipFill>
        <p:spPr>
          <a:xfrm>
            <a:off x="1600200" y="228600"/>
            <a:ext cx="59436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dance for this clas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952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ptional. I can get all I need by talking to a friend or just reading the material on my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retty darn important. I must contact the instructor to let her know I will be absent and I am responsible for getting anything I mi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 importan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must show up even if I am extremely ill and have a raging fe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encrypted-tbn1.gstatic.com/images?q=tbn:ANd9GcSFa2p0gxdgLr2YVo-YkgYpMBuxKtkLZhSWJ2vbkQ3bWwEEsbyTxg"/>
          <p:cNvPicPr/>
          <p:nvPr/>
        </p:nvPicPr>
        <p:blipFill>
          <a:blip r:embed="rId1"/>
          <a:stretch/>
        </p:blipFill>
        <p:spPr>
          <a:xfrm>
            <a:off x="5284800" y="1143000"/>
            <a:ext cx="3859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course assignments are ther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Documents and Settings\dana\Local Settings\Temporary Internet Files\Content.IE5\RJJFC5G4\MC900007700[1].wmf"/>
          <p:cNvPicPr/>
          <p:nvPr/>
        </p:nvPicPr>
        <p:blipFill>
          <a:blip r:embed="rId3"/>
          <a:stretch/>
        </p:blipFill>
        <p:spPr>
          <a:xfrm>
            <a:off x="5029200" y="3389400"/>
            <a:ext cx="3602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one have to do to earn the participation and professionalism poi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show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material and be prepared to use that information in a clas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ess professionally for cla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the instructor coo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mypages.iit.edu/%7Evural/cartoon_2.jpg"/>
          <p:cNvPicPr/>
          <p:nvPr/>
        </p:nvPicPr>
        <p:blipFill>
          <a:blip r:embed="rId3"/>
          <a:stretch/>
        </p:blipFill>
        <p:spPr>
          <a:xfrm>
            <a:off x="762120" y="4495680"/>
            <a:ext cx="746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inical Orientation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day, January 25, 9:00, State Farm Hall of Business, Caterpillar Auditori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y Museum Trip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, January 30, During Social Studie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ebruary 11-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irst week in your clinical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pril 1-19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eeks in the clinical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Mini Lesson/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Mini Lesson/Read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-Around/Shar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Ch. 1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nguage Art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a neighbor and discus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you expected to do as a literacy teach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ve you learned in past classes about what your should be teac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questions are forming in your mind as you think about what you are expected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troduce yourself and tell us what you know about literacy instr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s://encrypted-tbn3.google.com/images?q=tbn:ANd9GcS_JHxUDEZ-hjFQpx3Msa_dRP0ZpmPt3cKztm47r41hCtajtiZj"/>
          <p:cNvPicPr/>
          <p:nvPr/>
        </p:nvPicPr>
        <p:blipFill>
          <a:blip r:embed="rId1"/>
          <a:stretch/>
        </p:blipFill>
        <p:spPr>
          <a:xfrm>
            <a:off x="457200" y="228600"/>
            <a:ext cx="174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m I supposed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quire on your own (Professional Develop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s://encrypted-tbn1.google.com/images?q=tbn:ANd9GcRMaX6PXUX8Dskq2dV6qKWJfzlPzH4p9DymE0acMqhovwY6YT1eKg"/>
          <p:cNvPicPr/>
          <p:nvPr/>
        </p:nvPicPr>
        <p:blipFill>
          <a:blip r:embed="rId1"/>
          <a:stretch/>
        </p:blipFill>
        <p:spPr>
          <a:xfrm>
            <a:off x="6756480" y="1219320"/>
            <a:ext cx="203508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962520" y="3352680"/>
            <a:ext cx="39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ct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cesu-curriculum.cesu.k12.vt.us/modules/groups/homepagefiles/group_webpage/1556877-2101805-282jpeg"/>
          <p:cNvPicPr/>
          <p:nvPr/>
        </p:nvPicPr>
        <p:blipFill>
          <a:blip r:embed="rId2"/>
          <a:stretch/>
        </p:blipFill>
        <p:spPr>
          <a:xfrm>
            <a:off x="1600200" y="2819520"/>
            <a:ext cx="2057400" cy="16570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320760" y="5029200"/>
            <a:ext cx="52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 Stat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curriculummapping101.com/images/home/ccssBackground.png"/>
          <p:cNvPicPr/>
          <p:nvPr/>
        </p:nvPicPr>
        <p:blipFill>
          <a:blip r:embed="rId3"/>
          <a:stretch/>
        </p:blipFill>
        <p:spPr>
          <a:xfrm>
            <a:off x="5715000" y="4800600"/>
            <a:ext cx="279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oughts about Writing </a:t>
            </a:r>
            <a:br>
              <a:rPr sz="31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Lucy Caulkins, Katie Ray Wood, Donald Graves and Carl Anderson)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rs need a sense of purpose. Make plans for what they will do- se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 writing well, we should know at least 5 details about the lives and interests of each of our stud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like a writer- notice how things are wri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things that happen everyday make wonderful writing topics- jumping on the bed your brother throwing his food on your plate, your dog getting into the garbage can. (Mentor Tex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ight Shift Dadd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elli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Paperbo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av Pilk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ch conversations cultivat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goal is to offer children the opportunity to bring their lives to school and put their lives on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v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gs to 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ing is not linear, nor should it be 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nk about how to integrate multiple sign systems into the process (i.e., drama, music, movement/dance, a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6a00e54efa53e088330133f0eab2a9970b-800wi"/>
          <p:cNvPicPr/>
          <p:nvPr/>
        </p:nvPicPr>
        <p:blipFill>
          <a:blip r:embed="rId1"/>
          <a:stretch/>
        </p:blipFill>
        <p:spPr>
          <a:xfrm>
            <a:off x="0" y="0"/>
            <a:ext cx="2514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82880" y="228600"/>
            <a:ext cx="6261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Workshop Approach to Wri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752480"/>
            <a:ext cx="67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writing; students writing on a variety of t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orking at different stages of the wri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revising and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ing center with material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encing with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s’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ANd9GcS15J6T8pPQ6E9C5Uu8l2_E9g_KyOgIQa1JYracTkylT4fUuitvcA"/>
          <p:cNvPicPr/>
          <p:nvPr/>
        </p:nvPicPr>
        <p:blipFill>
          <a:blip r:embed="rId1"/>
          <a:stretch/>
        </p:blipFill>
        <p:spPr>
          <a:xfrm>
            <a:off x="228600" y="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Nd9GcRiD6MDWs1E4e8HWc6HjCkBESV8qPkTKGCVu8V4_RBgbITWJDTEXQ"/>
          <p:cNvPicPr/>
          <p:nvPr/>
        </p:nvPicPr>
        <p:blipFill>
          <a:blip r:embed="rId2"/>
          <a:stretch/>
        </p:blipFill>
        <p:spPr>
          <a:xfrm>
            <a:off x="678168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script%20rehearsal"/>
          <p:cNvPicPr/>
          <p:nvPr/>
        </p:nvPicPr>
        <p:blipFill>
          <a:blip r:embed="rId3"/>
          <a:stretch/>
        </p:blipFill>
        <p:spPr>
          <a:xfrm>
            <a:off x="0" y="3429000"/>
            <a:ext cx="233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276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he Syllabus and Course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ate Prior Knowledge of Language Arts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Writer’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-up or Writer’s Not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ANd9GcQDe1LYk075KonpzF9PhFwJoQD5iDxuEbRAAcPK4aK-IAn4gp5P"/>
          <p:cNvPicPr/>
          <p:nvPr/>
        </p:nvPicPr>
        <p:blipFill>
          <a:blip r:embed="rId1"/>
          <a:stretch/>
        </p:blipFill>
        <p:spPr>
          <a:xfrm>
            <a:off x="685800" y="4572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ten anything good late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n do you write? What do you wr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ith a partner complete the “Written Anything Good”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ritingfix.com/images/picture_books/written_anything_good_lately.jpg"/>
          <p:cNvPicPr/>
          <p:nvPr/>
        </p:nvPicPr>
        <p:blipFill>
          <a:blip r:embed="rId1"/>
          <a:stretch/>
        </p:blipFill>
        <p:spPr>
          <a:xfrm>
            <a:off x="5410080" y="3200400"/>
            <a:ext cx="3200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people wri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37160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/Personal Nar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or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ter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urn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ve Writing (Fiction/Fantas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g Lyr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:\Documents and Settings\dana\Local Settings\Temporary Internet Files\Content.IE5\Y1G7GE0C\MP900309384[1].jpg"/>
          <p:cNvPicPr/>
          <p:nvPr/>
        </p:nvPicPr>
        <p:blipFill>
          <a:blip r:embed="rId1"/>
          <a:stretch/>
        </p:blipFill>
        <p:spPr>
          <a:xfrm>
            <a:off x="6858000" y="9144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Documents and Settings\dana\Local Settings\Temporary Internet Files\Content.IE5\W0IJQKNV\MP900439466[1].jpg"/>
          <p:cNvPicPr/>
          <p:nvPr/>
        </p:nvPicPr>
        <p:blipFill>
          <a:blip r:embed="rId2"/>
          <a:stretch/>
        </p:blipFill>
        <p:spPr>
          <a:xfrm>
            <a:off x="6705720" y="4876920"/>
            <a:ext cx="2214360" cy="167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C:\Documents and Settings\dana\Local Settings\Temporary Internet Files\Content.IE5\W0IJQKNV\MC900371064[1].wmf"/>
          <p:cNvPicPr/>
          <p:nvPr/>
        </p:nvPicPr>
        <p:blipFill>
          <a:blip r:embed="rId3"/>
          <a:stretch/>
        </p:blipFill>
        <p:spPr>
          <a:xfrm>
            <a:off x="4952880" y="2362320"/>
            <a:ext cx="1600200" cy="140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s://encrypted-tbn3.gstatic.com/images?q=tbn:ANd9GcTtcMs1EZIZ4hlwZqSfPtKkt7V_xIY33PjTQ53p_eAWDb3H7Xfn"/>
          <p:cNvPicPr/>
          <p:nvPr/>
        </p:nvPicPr>
        <p:blipFill>
          <a:blip r:embed="rId4"/>
          <a:stretch/>
        </p:blipFill>
        <p:spPr>
          <a:xfrm>
            <a:off x="7010280" y="2743200"/>
            <a:ext cx="1486080" cy="194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C:\Documents and Settings\dana\Local Settings\Temporary Internet Files\Content.IE5\Y1G7GE0C\MC900311400[1].wmf"/>
          <p:cNvPicPr/>
          <p:nvPr/>
        </p:nvPicPr>
        <p:blipFill>
          <a:blip r:embed="rId5"/>
          <a:stretch/>
        </p:blipFill>
        <p:spPr>
          <a:xfrm>
            <a:off x="0" y="0"/>
            <a:ext cx="1295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chor Char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o-Construct charts with the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s are used as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develop independence during workshop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Out of the mouths of babes - anchor chart which shows children's thinking about what writers write. From a fabulous blog, &quot;First Grade Parade&quot;. Check it out!"/>
          <p:cNvPicPr/>
          <p:nvPr/>
        </p:nvPicPr>
        <p:blipFill>
          <a:blip r:embed="rId1"/>
          <a:stretch/>
        </p:blipFill>
        <p:spPr>
          <a:xfrm>
            <a:off x="5522760" y="917640"/>
            <a:ext cx="21733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do know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2514600"/>
          <a:ext cx="8229600" cy="3733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 Persu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In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Convey an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4"/>
          <p:cNvSpPr/>
          <p:nvPr/>
        </p:nvSpPr>
        <p:spPr>
          <a:xfrm>
            <a:off x="457200" y="1295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Communicative Purposes by Grade in the 2011 NAEP Writing Framework  (ccss, http://www.corestandards.org/assets/CCSSI_ELA%20Standards.pd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 is terribly important for kids to read and write for the reasons that people the world over read and write, which is to communicate, to be delighted, to laugh.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ucy Calk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ext time: Literature Circl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 up for a book on the Wiki (choose what really interests y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6" descr="ANd9GcSRdp9P2m1QpPqUDOW0wcDVhyLKidCtwYVBtytlPNXNxoCD9eWI"/>
          <p:cNvPicPr/>
          <p:nvPr/>
        </p:nvPicPr>
        <p:blipFill>
          <a:blip r:embed="rId1"/>
          <a:stretch/>
        </p:blipFill>
        <p:spPr>
          <a:xfrm>
            <a:off x="2590920" y="3809880"/>
            <a:ext cx="3124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 up for the novel you would like to read for your literature cir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Ch. 2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Arts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bout creating a community of learners. Complete a 3, 2,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- Ideas that are new to yo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- Conne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-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text for Building Community and bring to class next time (See the Wiki for idea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ng your writer’s note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ANd9GcQgf5e7HxXshRTOg8gJVyNxk8wyQnc2EMzuIYHApldJoxzXxRUNKA"/>
          <p:cNvPicPr/>
          <p:nvPr/>
        </p:nvPicPr>
        <p:blipFill>
          <a:blip r:embed="rId1"/>
          <a:stretch/>
        </p:blipFill>
        <p:spPr>
          <a:xfrm>
            <a:off x="0" y="0"/>
            <a:ext cx="32004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contact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na Karrak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armo 243, ph: 438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12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454-9653 (h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ail: dmkarra@ilstu.ed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ice Hours: Make an appointment or I will announce times for Skype office hou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kype: dana.karrak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I’m on most evenings to chat and answer questions and will have  specified times when you are working on major assignmen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ease use ilstu email to contact me at dmkarra@ilstu.edu (Department policy) I can only use your university email address to correspond with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are welcome to call my home phone before 9:00 p.m. (If email absolutely won’t 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ignments and resources will be placed the course wiki, which you can access at http://ci264-languagearts.wikispaces.com/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llabus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Cale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ANd9GcQTHdVRyoDDmkIOFH1K5OhREeZ1iBRrZMXcYmDjs5ZSVf1tInbw"/>
          <p:cNvPicPr/>
          <p:nvPr/>
        </p:nvPicPr>
        <p:blipFill>
          <a:blip r:embed="rId1"/>
          <a:stretch/>
        </p:blipFill>
        <p:spPr>
          <a:xfrm>
            <a:off x="5257800" y="3352680"/>
            <a:ext cx="3081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 find course materi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11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a course pac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ll or email Dana- she will tell 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urse Wi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57160" indent="-7426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lass blo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Program Files\Microsoft Office\MEDIA\CAGCAT10\j0299125.wmf"/>
          <p:cNvPicPr/>
          <p:nvPr/>
        </p:nvPicPr>
        <p:blipFill>
          <a:blip r:embed="rId3"/>
          <a:stretch/>
        </p:blipFill>
        <p:spPr>
          <a:xfrm>
            <a:off x="6019920" y="2819520"/>
            <a:ext cx="17524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really need help with something  I shoul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13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er in silence. This instructor does not like to help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n appointment to see the instructor or find out when she is on Skype and chat with 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Documents and Settings\dana\Local Settings\Temporary Internet Files\Content.IE5\MQF1OCIX\MC900441902[1].wmf"/>
          <p:cNvPicPr/>
          <p:nvPr/>
        </p:nvPicPr>
        <p:blipFill>
          <a:blip r:embed="rId3"/>
          <a:stretch/>
        </p:blipFill>
        <p:spPr>
          <a:xfrm>
            <a:off x="6477120" y="3235320"/>
            <a:ext cx="19699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and when should I contact the i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her any time I have a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her day or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her at the Pub almost any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8560" indent="-514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her after I have taken some time figure out the answer my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Documents and Settings\dana\Local Settings\Temporary Internet Files\Content.IE5\RJJFC5G4\MC900078762[1].wmf"/>
          <p:cNvPicPr/>
          <p:nvPr/>
        </p:nvPicPr>
        <p:blipFill>
          <a:blip r:embed="rId3"/>
          <a:stretch/>
        </p:blipFill>
        <p:spPr>
          <a:xfrm>
            <a:off x="6248520" y="3581280"/>
            <a:ext cx="25239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restart="never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class will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 on camp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uary 11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1-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11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dana\Local Settings\Temporary Internet Files\Content.IE5\Y1G7GE0C\MC900432664[1].png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20:02:52Z</dcterms:created>
  <dc:creator>dana karraker</dc:creator>
  <dc:description/>
  <dc:language>en-US</dc:language>
  <cp:lastModifiedBy>College of Education</cp:lastModifiedBy>
  <dcterms:modified xsi:type="dcterms:W3CDTF">2013-01-15T17:17:34Z</dcterms:modified>
  <cp:revision>37</cp:revision>
  <dc:subject/>
  <dc:title>C&amp;I264: Building Community </dc:title>
</cp:coreProperties>
</file>